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0DD-76FB-490B-9E23-7ED3AA0C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5A5-FE4B-47FB-B092-C796BFAD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263-D1B3-482B-A929-E47F24B2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953-5A17-4545-8C8B-0319F912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90F-9ADE-4235-8D23-98BEDD0C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FB2A-8464-4835-8726-702E6925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551B-B8FD-4CD4-8F74-BE5E82F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555-536F-4E00-BB4F-9372070D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4BDB-8CEC-4438-A20A-19C27A4C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5C24-433C-405D-A9C2-48BE0F5A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610A-449C-45CD-A8BC-98F1E7C8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051-3AA4-47DC-9CA8-565B626B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4828-ED32-4BE3-A756-404DF09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AB7-ECC8-43F0-A68A-AC82D8D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8B80-111B-4F24-A5C9-2C4ED12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E3B-7BFF-4801-BF11-6B7928BA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90F8-7D82-416A-B6A0-D0ABEA7B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754-671C-498C-92E5-D6039285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9DD-C043-4C21-8B02-45D3CFF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C3E-37BF-45B8-AB25-49354721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D56-E21D-470E-A819-6C2B55F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81D-3C23-4EF5-86A6-F96DAF4B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481-CDF6-4396-9875-BC24C99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700-5778-40D9-A18B-B719A45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907D-43C0-4938-9A3A-A9A0A3C624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BC95-D198-4926-B1F5-93EF920F90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ndli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other Measure of Growth Ra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rate and trend 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the growth rate compare to students in the normed sample at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es the trend line indicate that the student is going to achieve proficienc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c—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havior—75 percent or 100 per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s at Level III that approximate special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: How Do They Show Growt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 that you draw through a series of data points that represents the student’s actual rate of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flatter than the aimline, then adjust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steeper than the aimline then adjust goal or area of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opes are the same make no ch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 Procedures:  Can be done in Excel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first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second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two inter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your decision, is it the same decis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 and Entitlement Crite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determine how long it will be before the student’s skills are likely to be pro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d for Behavior Entit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Academics as we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cademics, can add student’s current growth rate to the median of the last 3 data points to determine how many weeks it will take the student to meet proficiency standa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 Short Term Interven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’s growth rate is 3 words per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25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centile for Spring is 8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6 - 7 weeks, the student is likely to have reached proficiency on this pro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7 – 68 = 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 X 6   = 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’s growth rate is 0.5 words/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 will need 36 to 37 weeks to become profi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7 –  68 = 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.5 x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6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 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to peers, e.g. normativ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student above or below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th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 for acad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the student met behavior goa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00:06Z</dcterms:created>
  <dc:creator>user</dc:creator>
  <dc:description/>
  <dc:language>en-US</dc:language>
  <cp:lastModifiedBy>user</cp:lastModifiedBy>
  <dcterms:modified xsi:type="dcterms:W3CDTF">2010-09-03T19:00:38Z</dcterms:modified>
  <cp:revision>1</cp:revision>
  <dc:subject/>
  <dc:title>Trendlines</dc:title>
</cp:coreProperties>
</file>